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93B-4C3B-474D-A2D8-7025672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D56-50EA-4EEB-931F-FDEA726F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E5C-600D-47C2-BE09-B604CD64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256-DA33-4D05-9DE7-130264E6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FF48-E1D3-4560-B3BA-8D5A92B2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AB0C-A3F1-4868-9AF6-DACBD732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6A16-8154-4A50-BC7E-7B840F5B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7089-AF0E-4533-AE36-9434D902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0F6-3ACD-4512-977A-72E7C98F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E169-A221-46C3-A931-F98E15B8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EB7D-9370-4603-81CE-2BAF8D72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371-054E-448D-BB2C-FAFB17CA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95F7-6D13-4E1C-A1BD-CBFD318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1C06-AAF9-40AD-8C11-AC90324C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0CE-4BC7-4BC4-BFBC-4C626C29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6BDE-C975-4644-B936-0E8944A6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5437-1CC2-41EE-8DFA-3B0FAC21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55CC-4DFC-4D52-B90B-9C44D4B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70F-A852-4F97-A824-51D37E8F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7E7-90D7-49F7-AB13-AB3FEF0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209-C9B5-4E13-8E4C-169170A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B7D-26D5-4C04-8F92-CC9B382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692-CBEE-4FC4-AF6B-016A843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F2A-02F1-488B-8966-538343A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9D2B-8AA7-4128-A41C-27231FD5E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04C-0B13-4F6B-9644-1F736D410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C0K_LZDXp0I" TargetMode="External"/><Relationship Id="rId3" Type="http://schemas.openxmlformats.org/officeDocument/2006/relationships/hyperlink" Target="http://www.youtube.com/watch?v=Bz3t4LcXwtE&amp;feature=relate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-6480"/>
            <a:ext cx="8076960" cy="686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Arms R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49: Soviet Union successfully tests their first atomic 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2: U.S. tests first hydrogen 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53: Soviets test h-bom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es for 40 year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48769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tual Assured De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ide has enough nuclear weaponry to destroy the other s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aliate with equal or greater for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side will strike fir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e but stable pe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tual Assured Destr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ends on four main assump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-strike cap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 dete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ect ra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bility to def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40384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uclear F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uck and Co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Fallout Shelt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753080" y="1523880"/>
            <a:ext cx="3828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5% = Thermal radiation (Hea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19920" y="1905120"/>
            <a:ext cx="283356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= B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58388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“Duck and Cover” Was Entirely Ineffect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% as nuclear rad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% as initial rad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% 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sidual nuclear rad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llout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4960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3:04:41Z</dcterms:created>
  <dc:creator>Owner</dc:creator>
  <dc:description/>
  <dc:language>en-US</dc:language>
  <cp:lastModifiedBy>Owner</cp:lastModifiedBy>
  <dcterms:modified xsi:type="dcterms:W3CDTF">2010-04-22T05:19:32Z</dcterms:modified>
  <cp:revision>3</cp:revision>
  <dc:subject/>
  <dc:title>Nuclear War</dc:title>
</cp:coreProperties>
</file>